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1EE3-995E-4B39-8A77-20DBECF53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a + b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r - 2s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+ x =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and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s are variables that you put into the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s are variables that you solv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2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quation above, y has to b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it is the variable that is being solv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x 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solved for y, then x is the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ed pair would then be written as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r , s ) is similar to ( s , 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/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aid before, there are many possible ordered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more than one solution, we use a Table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B8F-2DB8-41D0-A091-6BA568BB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D4F-6BC2-4115-810C-793AD7ED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62B-22D6-4397-BF7C-D4CD4E75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92B6-AEB2-4A84-9FD1-97B0F0D7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054-ADB0-4C70-9207-DEEF40B3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8C9-78F0-433B-B3DC-7B20EDF2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265-663D-4517-82C8-28CFC826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A07-A1E2-409F-A286-8AC2F77D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C9D-3507-4BDB-9C43-C0266226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B22-FEE7-478C-B536-DE663CA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8C0-B387-422C-91C2-C019D29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736-EEC1-40A1-A286-00E4E915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ED1-3D88-4FC6-9898-B50E8D666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95560" y="4572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24685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are functions which have two variables.  They have an independent and dependent varia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676520" y="7621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ass Exampl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133720" y="2286000"/>
            <a:ext cx="48765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a + b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r - 2s 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 + x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33440" y="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ependent and Dependent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19051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2880" y="14479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ependent variables are variables that you put into th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3886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pendent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34290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pendent variables are variables that you solv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228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Just as common sense would dictate.  If something is independent, then it is on its own.  But if it is dependent, then it relies on someone or something el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365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dependent variable relies on what is used in place of the 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81080" y="380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2x -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752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sing the equation above, y has to b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4038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638360" y="4038480"/>
            <a:ext cx="750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it is the variable that is being solv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28600" y="2286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5335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linear equations have two variables,there are many possible combinations of 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3429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ose possible solutions are written as ordered pairs.  Usually an ordered pair is written with the independent variable first then the 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00280" y="685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3x -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7640" y="19051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we solved for y, then x is the independent var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02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ordered pair would then be written as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2286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we do not know which variable is independent, then we choose one.  No matter which one is independent, we will still produce similar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3733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 r , s ) is similar to ( s , r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 congruent/eq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19040" y="9144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st of the time when we use the variables x &amp; y in an equation, x is independent and y is dep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42670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are some exceptions, but we will work with those at a much lat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372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s said before, there are many possible ordered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26589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find more than one solution, we use a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ble of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43480" y="4343400"/>
          <a:ext cx="2057400" cy="207324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9:49:02Z</dcterms:created>
  <dc:creator>Chester Area School</dc:creator>
  <dc:description/>
  <dc:language>en-US</dc:language>
  <cp:lastModifiedBy>RomaK</cp:lastModifiedBy>
  <dcterms:modified xsi:type="dcterms:W3CDTF">2015-09-04T07:42:34Z</dcterms:modified>
  <cp:revision>16</cp:revision>
  <dc:subject/>
  <dc:title>PowerPoint Presentation</dc:title>
</cp:coreProperties>
</file>